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0664-811D-44B6-9DB5-E5995AA30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E9EC-7D0C-4EC3-9CBA-CF2246E85F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D042-2754-4B17-B632-8AE8BC020F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2DC9-EC87-410C-B2E7-41FA699B00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C492-174F-4AE8-9613-26274C94867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6652-7257-4442-A88E-06930A0AFB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EEFD-4A8A-4E70-A83E-4ED59E127B9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FAFA-CC83-41AF-8B4F-13062730569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CEA9-5A1D-4E40-BC08-2C11A14F39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BECA-CAFB-4F9C-81D0-DE7BBEFC21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E1B-B409-4BAE-8317-CC46EAB2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EB7-9309-4C44-90CE-EA4710B2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8A6-5136-4D8D-96D3-67D6FC82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257-F072-4E99-BDDA-05FF3739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1E0-149F-4AC2-9F58-8D0C16C7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5E9-E85C-4274-AD33-60329F44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FAA-3F2C-453B-8FD4-714520FA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AFE-A53E-4B3D-A2AE-FFBD9E4A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936-4DDB-44A6-8B77-BBACF73D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1AA-9FC0-44B0-BCC3-7797F296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885-81D5-4FAC-8CBA-188D7FDD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64E4-40EA-4E56-BE4B-80AF12D8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46FE-BB77-4CE1-891E-D829CC41E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猜字遊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2600" y="1571400"/>
            <a:ext cx="82011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8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去</a:t>
            </a:r>
            <a:endParaRPr b="0" lang="en-US" sz="3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08360" y="5010840"/>
            <a:ext cx="1040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Chinese Pinyin"/>
              <a:ea typeface="新細明體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3714840"/>
            <a:ext cx="7772400" cy="18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看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08360" y="5010840"/>
            <a:ext cx="1040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Chinese Pinyin"/>
              <a:ea typeface="新細明體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795816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8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心</a:t>
            </a:r>
            <a:endParaRPr b="0" lang="en-US" sz="3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08360" y="5661000"/>
            <a:ext cx="104004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Chinese Pinyin"/>
                <a:ea typeface="新細明體"/>
              </a:rPr>
              <a:t>zh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784368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8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鳥</a:t>
            </a:r>
            <a:endParaRPr b="0" lang="en-US" sz="3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308360" y="5010840"/>
            <a:ext cx="1040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Chinese Pinyin"/>
              <a:ea typeface="新細明體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1856880"/>
            <a:ext cx="8058240" cy="41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8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老</a:t>
            </a:r>
            <a:endParaRPr b="0" lang="en-US" sz="3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308360" y="5010840"/>
            <a:ext cx="1040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Chinese Pinyin"/>
              <a:ea typeface="新細明體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1714320"/>
            <a:ext cx="805788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8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果</a:t>
            </a:r>
            <a:endParaRPr b="0" lang="en-US" sz="3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308360" y="5010840"/>
            <a:ext cx="1040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Chinese Pinyin"/>
              <a:ea typeface="新細明體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1714320"/>
            <a:ext cx="784368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8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猜 </a:t>
            </a:r>
            <a:endParaRPr b="0" lang="en-US" sz="3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308360" y="5010840"/>
            <a:ext cx="1040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Chinese Pinyin"/>
              <a:ea typeface="新細明體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600" y="1571760"/>
            <a:ext cx="7815240" cy="52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8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問</a:t>
            </a:r>
            <a:endParaRPr b="0" lang="en-US" sz="3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308360" y="5010840"/>
            <a:ext cx="1040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Chinese Pinyin"/>
              <a:ea typeface="新細明體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8440" y="2642760"/>
            <a:ext cx="75294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8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來</a:t>
            </a:r>
            <a:endParaRPr b="0" lang="en-US" sz="3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308360" y="5010840"/>
            <a:ext cx="1040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Chinese Pinyin"/>
              <a:ea typeface="新細明體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06:48:56Z</dcterms:created>
  <dc:creator>Monica</dc:creator>
  <dc:description/>
  <dc:language>en-US</dc:language>
  <cp:lastModifiedBy>Monica</cp:lastModifiedBy>
  <dcterms:modified xsi:type="dcterms:W3CDTF">2009-11-16T07:05:19Z</dcterms:modified>
  <cp:revision>3</cp:revision>
  <dc:subject/>
  <dc:title>猜字遊戲</dc:title>
</cp:coreProperties>
</file>